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76F9-5E3C-4111-BB73-154373469429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. Pierwsze postrzeganie liczb u ludów pierwot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lia 1 i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żo – wiele – wengi, weng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m/m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. Oznaczenia większej liczby rzeczy u ludów prymitywn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lia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mboliczne znaczenie liczby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m/s/m/s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9. Liczenie części ciała u Papuasó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lia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Zbiór rzeczy równoliczny z badanym – zbieranie kamieni muszelek, gałązek i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ytanie –  szamani, biżuteria, różani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s/m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stem 12-owy – eksperyment na palc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ytanie – czy my tak liczymy, liczyliśm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zostałości – pojedyncze słowa w języku polsk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m/s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ystem 12-owy – eksperyment na palc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ytanie – czy my tak liczymy, liczyliśm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zostałości – pojedyncze słowa w języku polsk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s/m/s/m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C11-78F7-41E3-A226-391622FB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780-8F59-4EF7-9464-39B39B1C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18C-F9C0-432D-80EC-E7877A3D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85E-EC3F-461C-951B-04CEAE7A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37D0-0990-4ECF-8024-D2F038C3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611-4193-442E-848A-4C4E4473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17C-DB8E-4FFE-A2B8-D98C2730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6909-DB59-47D8-8738-24D5F3F7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985-7FD6-4D5A-B172-0949D8A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E34-E259-452D-89F2-E2939AA1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33C5-4519-4139-BEE3-455F05D3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88B-38E1-4199-8131-4C4E33EB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BDE2-66D9-44DC-8429-7A9F3B353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44792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NAUKA MYŚLENIA...</a:t>
            </a:r>
            <a:br>
              <a:rPr sz="4400"/>
            </a:br>
            <a:br>
              <a:rPr sz="20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czyli jak rozwinąć wyobraźni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4080" y="5257440"/>
            <a:ext cx="5181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66"/>
                </a:solidFill>
                <a:latin typeface="Comic Sans MS"/>
              </a:rPr>
              <a:t>autor: Bożysław Dybow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864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W pewnym mieście burmistrz znany 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z innowacyjności zaprojektował różnokątne pokrywy do studzienek 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na ulic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Dlaczego ten nowatorski pomysł </a:t>
            </a:r>
            <a:br>
              <a:rPr sz="2800"/>
            </a:b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nie wszedł w życi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361120"/>
            <a:ext cx="838080" cy="838080"/>
          </a:xfrm>
          <a:prstGeom prst="rect">
            <a:avLst/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5284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2848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48520" y="5208480"/>
            <a:ext cx="990360" cy="9907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86760" y="5181480"/>
            <a:ext cx="1019160" cy="968400"/>
          </a:xfrm>
          <a:prstGeom prst="pentagon">
            <a:avLst/>
          </a:prstGeom>
          <a:solidFill>
            <a:srgbClr val="ff9900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8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438280" y="2666520"/>
            <a:ext cx="327672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Jak z okr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gów wspó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łś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rodkowych wykona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ć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spiral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ie u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ywaj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c linijki ani cyrkla?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2514600"/>
            <a:ext cx="2590560" cy="25909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2666880"/>
            <a:ext cx="2286000" cy="228600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2819520"/>
            <a:ext cx="1981440" cy="19810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2971800"/>
            <a:ext cx="1676160" cy="16765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124080"/>
            <a:ext cx="1371600" cy="137160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276720"/>
            <a:ext cx="1067040" cy="10666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3429000"/>
            <a:ext cx="761760" cy="76212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86600" y="3581280"/>
            <a:ext cx="457200" cy="45720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3733920"/>
            <a:ext cx="152640" cy="152280"/>
          </a:xfrm>
          <a:prstGeom prst="ellipse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00040" y="9903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9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90920" y="3352320"/>
            <a:ext cx="2743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Ile kwadratów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mo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a znal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źć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a rysunku?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715000" y="2819520"/>
            <a:ext cx="2590920" cy="2590560"/>
            <a:chOff x="5715000" y="2819520"/>
            <a:chExt cx="2590920" cy="2590560"/>
          </a:xfrm>
        </p:grpSpPr>
        <p:sp>
          <p:nvSpPr>
            <p:cNvPr id="160" name=""/>
            <p:cNvSpPr/>
            <p:nvPr/>
          </p:nvSpPr>
          <p:spPr>
            <a:xfrm>
              <a:off x="5715000" y="2819520"/>
              <a:ext cx="2590920" cy="259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5715000" y="2819520"/>
              <a:ext cx="2590920" cy="2590200"/>
              <a:chOff x="5715000" y="2819520"/>
              <a:chExt cx="2590920" cy="2590200"/>
            </a:xfrm>
          </p:grpSpPr>
          <p:sp>
            <p:nvSpPr>
              <p:cNvPr id="162" name=""/>
              <p:cNvSpPr/>
              <p:nvPr/>
            </p:nvSpPr>
            <p:spPr>
              <a:xfrm>
                <a:off x="5715000" y="2819520"/>
                <a:ext cx="1295280" cy="1294920"/>
              </a:xfrm>
              <a:prstGeom prst="rect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10280" y="4114440"/>
                <a:ext cx="1295640" cy="1295280"/>
              </a:xfrm>
              <a:prstGeom prst="rect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10280" y="2819520"/>
                <a:ext cx="1295640" cy="129492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15000" y="4114440"/>
                <a:ext cx="1295280" cy="1295280"/>
              </a:xfrm>
              <a:prstGeom prst="rect">
                <a:avLst/>
              </a:prstGeom>
              <a:noFill/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46640" y="3250800"/>
                <a:ext cx="1727280" cy="1726920"/>
              </a:xfrm>
              <a:prstGeom prst="rect">
                <a:avLst/>
              </a:prstGeom>
              <a:noFill/>
              <a:ln w="28440">
                <a:solidFill>
                  <a:srgbClr val="00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715000" y="2819520"/>
                <a:ext cx="1727280" cy="1726920"/>
              </a:xfrm>
              <a:prstGeom prst="rect">
                <a:avLst/>
              </a:prstGeom>
              <a:noFill/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578640" y="3682800"/>
                <a:ext cx="1727280" cy="1726920"/>
              </a:xfrm>
              <a:prstGeom prst="rect">
                <a:avLst/>
              </a:prstGeom>
              <a:noFill/>
              <a:ln w="284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00040" y="6854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1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37920" y="2362320"/>
            <a:ext cx="6324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Z drewnianej 50 litrowej beczki należy odlać połowę (25 litrów) zawartego w niej płyn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Czy można tego dokonać szybko, bez użycia dodatkowych przyrządó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Comic Sans MS"/>
              </a:rPr>
              <a:t>MYŚLENIE INNOWACYJ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752480" y="4038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Comic Sans MS"/>
              </a:rPr>
              <a:t>W HISTOR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62320" y="228600"/>
            <a:ext cx="55623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Pierwsze obliczenia </a:t>
            </a:r>
            <a:br>
              <a:rPr sz="3800"/>
            </a:br>
            <a:r>
              <a:rPr b="0" lang="en-US" sz="38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pierwotnych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7400" y="175104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Prymitywne plemiona Afryki, Ameryki Południowej i Australii do tej pory zacho-wały sposób obliczeń ludzi pierwot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3363840"/>
            <a:ext cx="129528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1 </a:t>
            </a: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2 </a:t>
            </a: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– </a:t>
            </a:r>
            <a:br>
              <a:rPr sz="2800"/>
            </a:b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3 –</a:t>
            </a:r>
            <a:br>
              <a:rPr sz="2800"/>
            </a:b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66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ffff"/>
                </a:solidFill>
                <a:latin typeface="Comic Sans MS"/>
              </a:rPr>
              <a:t>4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3352680"/>
            <a:ext cx="5486400" cy="30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ywa istota, c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owiek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dwie p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e, symetria w cie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owieka,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ż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ycie i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mier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ć, par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u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, wiele, tyle, ile włosów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na głowie...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... 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2274840" y="1951200"/>
            <a:ext cx="1306440" cy="4678920"/>
            <a:chOff x="2274840" y="1951200"/>
            <a:chExt cx="1306440" cy="4678920"/>
          </a:xfrm>
        </p:grpSpPr>
        <p:pic>
          <p:nvPicPr>
            <p:cNvPr id="178" name="AN02542_" descr=""/>
            <p:cNvPicPr/>
            <p:nvPr/>
          </p:nvPicPr>
          <p:blipFill>
            <a:blip r:embed="rId2"/>
            <a:stretch/>
          </p:blipFill>
          <p:spPr>
            <a:xfrm>
              <a:off x="2384280" y="1951200"/>
              <a:ext cx="892440" cy="86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NA01441_" descr=""/>
            <p:cNvPicPr/>
            <p:nvPr/>
          </p:nvPicPr>
          <p:blipFill>
            <a:blip r:embed="rId3"/>
            <a:stretch/>
          </p:blipFill>
          <p:spPr>
            <a:xfrm>
              <a:off x="2274840" y="3246480"/>
              <a:ext cx="1306440" cy="1276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0" name=""/>
            <p:cNvGrpSpPr/>
            <p:nvPr/>
          </p:nvGrpSpPr>
          <p:grpSpPr>
            <a:xfrm>
              <a:off x="2697120" y="4998960"/>
              <a:ext cx="503280" cy="1631160"/>
              <a:chOff x="2697120" y="4998960"/>
              <a:chExt cx="503280" cy="1631160"/>
            </a:xfrm>
          </p:grpSpPr>
          <p:sp>
            <p:nvSpPr>
              <p:cNvPr id="181" name=""/>
              <p:cNvSpPr/>
              <p:nvPr/>
            </p:nvSpPr>
            <p:spPr>
              <a:xfrm>
                <a:off x="2882160" y="4998960"/>
                <a:ext cx="159120" cy="244440"/>
              </a:xfrm>
              <a:prstGeom prst="ellipse">
                <a:avLst/>
              </a:prstGeom>
              <a:noFill/>
              <a:ln w="442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2697120" y="5242680"/>
                <a:ext cx="503280" cy="1387440"/>
                <a:chOff x="2697120" y="5242680"/>
                <a:chExt cx="503280" cy="1387440"/>
              </a:xfrm>
            </p:grpSpPr>
            <p:sp>
              <p:nvSpPr>
                <p:cNvPr id="183" name=""/>
                <p:cNvSpPr/>
                <p:nvPr/>
              </p:nvSpPr>
              <p:spPr>
                <a:xfrm rot="316200">
                  <a:off x="2855520" y="5243400"/>
                  <a:ext cx="79560" cy="1386000"/>
                </a:xfrm>
                <a:custGeom>
                  <a:avLst/>
                  <a:gdLst/>
                  <a:ahLst/>
                  <a:rect l="l" t="t" r="r" b="b"/>
                  <a:pathLst>
                    <a:path w="187" h="3060">
                      <a:moveTo>
                        <a:pt x="187" y="0"/>
                      </a:moveTo>
                      <a:cubicBezTo>
                        <a:pt x="93" y="315"/>
                        <a:pt x="0" y="630"/>
                        <a:pt x="0" y="900"/>
                      </a:cubicBezTo>
                      <a:cubicBezTo>
                        <a:pt x="0" y="1170"/>
                        <a:pt x="187" y="1260"/>
                        <a:pt x="187" y="1620"/>
                      </a:cubicBezTo>
                      <a:cubicBezTo>
                        <a:pt x="187" y="1980"/>
                        <a:pt x="93" y="2520"/>
                        <a:pt x="0" y="306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935440" y="5895720"/>
                  <a:ext cx="158760" cy="733680"/>
                </a:xfrm>
                <a:custGeom>
                  <a:avLst/>
                  <a:gdLst/>
                  <a:ahLst/>
                  <a:rect l="l" t="t" r="r" b="b"/>
                  <a:pathLst>
                    <a:path w="374" h="1620">
                      <a:moveTo>
                        <a:pt x="0" y="0"/>
                      </a:moveTo>
                      <a:cubicBezTo>
                        <a:pt x="156" y="675"/>
                        <a:pt x="312" y="1350"/>
                        <a:pt x="374" y="162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97120" y="5270400"/>
                  <a:ext cx="503280" cy="624960"/>
                </a:xfrm>
                <a:custGeom>
                  <a:avLst/>
                  <a:gdLst/>
                  <a:ahLst/>
                  <a:rect l="l" t="t" r="r" b="b"/>
                  <a:pathLst>
                    <a:path w="1184" h="1380">
                      <a:moveTo>
                        <a:pt x="0" y="1380"/>
                      </a:moveTo>
                      <a:cubicBezTo>
                        <a:pt x="93" y="810"/>
                        <a:pt x="187" y="240"/>
                        <a:pt x="374" y="120"/>
                      </a:cubicBezTo>
                      <a:cubicBezTo>
                        <a:pt x="561" y="0"/>
                        <a:pt x="1060" y="510"/>
                        <a:pt x="1122" y="660"/>
                      </a:cubicBezTo>
                      <a:cubicBezTo>
                        <a:pt x="1184" y="810"/>
                        <a:pt x="966" y="915"/>
                        <a:pt x="748" y="102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6" name=""/>
          <p:cNvSpPr/>
          <p:nvPr/>
        </p:nvSpPr>
        <p:spPr>
          <a:xfrm>
            <a:off x="2057400" y="2103480"/>
            <a:ext cx="671832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ŻABA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   Ż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66920" y="3780000"/>
            <a:ext cx="643896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DRZEWO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 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5684760"/>
            <a:ext cx="61722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CZŁOWIEK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ffff"/>
                </a:solidFill>
                <a:latin typeface="Comic Sans MS"/>
              </a:rPr>
              <a:t>             TŁ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5335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O</a:t>
            </a:r>
            <a:r>
              <a:rPr b="0" lang="en-US" sz="40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bliczenia</a:t>
            </a: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pierwotnych</a:t>
            </a:r>
            <a:r>
              <a:rPr b="0" lang="en-US" sz="20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410080" y="1974960"/>
            <a:ext cx="2133720" cy="4548240"/>
            <a:chOff x="5410080" y="1974960"/>
            <a:chExt cx="2133720" cy="4548240"/>
          </a:xfrm>
        </p:grpSpPr>
        <p:grpSp>
          <p:nvGrpSpPr>
            <p:cNvPr id="191" name=""/>
            <p:cNvGrpSpPr/>
            <p:nvPr/>
          </p:nvGrpSpPr>
          <p:grpSpPr>
            <a:xfrm>
              <a:off x="6620040" y="5075280"/>
              <a:ext cx="295200" cy="990720"/>
              <a:chOff x="6620040" y="5075280"/>
              <a:chExt cx="295200" cy="990720"/>
            </a:xfrm>
          </p:grpSpPr>
          <p:sp>
            <p:nvSpPr>
              <p:cNvPr id="192" name=""/>
              <p:cNvSpPr/>
              <p:nvPr/>
            </p:nvSpPr>
            <p:spPr>
              <a:xfrm>
                <a:off x="6728760" y="5075280"/>
                <a:ext cx="93240" cy="148320"/>
              </a:xfrm>
              <a:prstGeom prst="ellipse">
                <a:avLst/>
              </a:prstGeom>
              <a:noFill/>
              <a:ln w="442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6620040" y="5223240"/>
                <a:ext cx="295200" cy="842760"/>
                <a:chOff x="6620040" y="5223240"/>
                <a:chExt cx="295200" cy="842760"/>
              </a:xfrm>
            </p:grpSpPr>
            <p:sp>
              <p:nvSpPr>
                <p:cNvPr id="194" name=""/>
                <p:cNvSpPr/>
                <p:nvPr/>
              </p:nvSpPr>
              <p:spPr>
                <a:xfrm rot="316200">
                  <a:off x="6713280" y="5223240"/>
                  <a:ext cx="46440" cy="842040"/>
                </a:xfrm>
                <a:custGeom>
                  <a:avLst/>
                  <a:gdLst/>
                  <a:ahLst/>
                  <a:rect l="l" t="t" r="r" b="b"/>
                  <a:pathLst>
                    <a:path w="187" h="3060">
                      <a:moveTo>
                        <a:pt x="187" y="0"/>
                      </a:moveTo>
                      <a:cubicBezTo>
                        <a:pt x="93" y="315"/>
                        <a:pt x="0" y="630"/>
                        <a:pt x="0" y="900"/>
                      </a:cubicBezTo>
                      <a:cubicBezTo>
                        <a:pt x="0" y="1170"/>
                        <a:pt x="187" y="1260"/>
                        <a:pt x="187" y="1620"/>
                      </a:cubicBezTo>
                      <a:cubicBezTo>
                        <a:pt x="187" y="1980"/>
                        <a:pt x="93" y="2520"/>
                        <a:pt x="0" y="306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59720" y="5619960"/>
                  <a:ext cx="93240" cy="445680"/>
                </a:xfrm>
                <a:custGeom>
                  <a:avLst/>
                  <a:gdLst/>
                  <a:ahLst/>
                  <a:rect l="l" t="t" r="r" b="b"/>
                  <a:pathLst>
                    <a:path w="374" h="1620">
                      <a:moveTo>
                        <a:pt x="0" y="0"/>
                      </a:moveTo>
                      <a:cubicBezTo>
                        <a:pt x="156" y="675"/>
                        <a:pt x="312" y="1350"/>
                        <a:pt x="374" y="162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620040" y="5239800"/>
                  <a:ext cx="295200" cy="379800"/>
                </a:xfrm>
                <a:custGeom>
                  <a:avLst/>
                  <a:gdLst/>
                  <a:ahLst/>
                  <a:rect l="l" t="t" r="r" b="b"/>
                  <a:pathLst>
                    <a:path w="1184" h="1380">
                      <a:moveTo>
                        <a:pt x="0" y="1380"/>
                      </a:moveTo>
                      <a:cubicBezTo>
                        <a:pt x="93" y="810"/>
                        <a:pt x="187" y="240"/>
                        <a:pt x="374" y="120"/>
                      </a:cubicBezTo>
                      <a:cubicBezTo>
                        <a:pt x="561" y="0"/>
                        <a:pt x="1060" y="510"/>
                        <a:pt x="1122" y="660"/>
                      </a:cubicBezTo>
                      <a:cubicBezTo>
                        <a:pt x="1184" y="810"/>
                        <a:pt x="966" y="915"/>
                        <a:pt x="748" y="1020"/>
                      </a:cubicBezTo>
                    </a:path>
                  </a:pathLst>
                </a:custGeom>
                <a:noFill/>
                <a:ln w="442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6324480" y="4237200"/>
              <a:ext cx="831960" cy="304560"/>
              <a:chOff x="6324480" y="4237200"/>
              <a:chExt cx="831960" cy="304560"/>
            </a:xfrm>
          </p:grpSpPr>
          <p:sp>
            <p:nvSpPr>
              <p:cNvPr id="198" name=""/>
              <p:cNvSpPr/>
              <p:nvPr/>
            </p:nvSpPr>
            <p:spPr>
              <a:xfrm>
                <a:off x="6324480" y="423720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24480" y="438948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24480" y="454176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1" name="NA01441_" descr=""/>
            <p:cNvPicPr/>
            <p:nvPr/>
          </p:nvPicPr>
          <p:blipFill>
            <a:blip r:embed="rId4"/>
            <a:stretch/>
          </p:blipFill>
          <p:spPr>
            <a:xfrm>
              <a:off x="6248520" y="3193920"/>
              <a:ext cx="990360" cy="966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2" name=""/>
            <p:cNvGrpSpPr/>
            <p:nvPr/>
          </p:nvGrpSpPr>
          <p:grpSpPr>
            <a:xfrm>
              <a:off x="5410080" y="1974960"/>
              <a:ext cx="2133720" cy="704880"/>
              <a:chOff x="5410080" y="1974960"/>
              <a:chExt cx="2133720" cy="704880"/>
            </a:xfrm>
          </p:grpSpPr>
          <p:pic>
            <p:nvPicPr>
              <p:cNvPr id="203" name="AN02542_" descr=""/>
              <p:cNvPicPr/>
              <p:nvPr/>
            </p:nvPicPr>
            <p:blipFill>
              <a:blip r:embed="rId5"/>
              <a:stretch/>
            </p:blipFill>
            <p:spPr>
              <a:xfrm>
                <a:off x="5410080" y="1974960"/>
                <a:ext cx="727200" cy="70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AN02542_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5880" y="1974960"/>
                <a:ext cx="727200" cy="70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AN02542_" descr=""/>
              <p:cNvPicPr/>
              <p:nvPr/>
            </p:nvPicPr>
            <p:blipFill>
              <a:blip r:embed="rId7"/>
              <a:stretch/>
            </p:blipFill>
            <p:spPr>
              <a:xfrm>
                <a:off x="6816600" y="1974960"/>
                <a:ext cx="727200" cy="70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"/>
            <p:cNvGrpSpPr/>
            <p:nvPr/>
          </p:nvGrpSpPr>
          <p:grpSpPr>
            <a:xfrm>
              <a:off x="6324480" y="6218280"/>
              <a:ext cx="831960" cy="304920"/>
              <a:chOff x="6324480" y="6218280"/>
              <a:chExt cx="831960" cy="304920"/>
            </a:xfrm>
          </p:grpSpPr>
          <p:sp>
            <p:nvSpPr>
              <p:cNvPr id="207" name=""/>
              <p:cNvSpPr/>
              <p:nvPr/>
            </p:nvSpPr>
            <p:spPr>
              <a:xfrm>
                <a:off x="6324480" y="621828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24480" y="637056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24480" y="6523200"/>
                <a:ext cx="831960" cy="0"/>
              </a:xfrm>
              <a:prstGeom prst="line">
                <a:avLst/>
              </a:prstGeom>
              <a:ln w="2844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3880" y="6858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  <a:ea typeface="Times New Roman"/>
              </a:rPr>
              <a:t>Porównywanie zbioró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1600200"/>
            <a:ext cx="731520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aznaczanie il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rzeczy, zwierzą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naci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ami na k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 (ga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ę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zi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zbieranie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na stosie kamieni (muszli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sk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adanie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w woreczkach kamyków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(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bów zwier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t, ziaren nasion)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cc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nanizanie na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yko (ga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ą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zk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, sznurek)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glinianych kulek (muszelek z dziurkami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33720" y="5562720"/>
            <a:ext cx="6858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A następnie poprzez plemiennych szamanów do współczesnej biżuter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057040" y="9144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Liczenie u Papuasó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514600"/>
            <a:ext cx="62485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J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eszcze w poc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tkach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ubiegłeg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wieku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d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przedstawiania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il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 rzeczy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 stosowano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kolejne 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z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ęś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ci cia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  <a:ea typeface="Times New Roman"/>
              </a:rPr>
              <a:t>a.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A jak sobie radzono, jeśli części tych nie wystarczał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15400" y="152280"/>
            <a:ext cx="228600" cy="670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981080" y="533520"/>
            <a:ext cx="28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Systemy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licz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133720"/>
            <a:ext cx="266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ccffff"/>
                </a:solidFill>
                <a:uFillTx/>
                <a:latin typeface="Comic Sans MS"/>
                <a:ea typeface="Times New Roman"/>
              </a:rPr>
              <a:t>System</a:t>
            </a:r>
            <a:br>
              <a:rPr sz="2800"/>
            </a:br>
            <a:r>
              <a:rPr b="0" lang="pl-PL" sz="2800" spc="-1" strike="noStrike" u="sng">
                <a:solidFill>
                  <a:srgbClr val="ccffff"/>
                </a:solidFill>
                <a:uFillTx/>
                <a:latin typeface="Comic Sans MS"/>
                <a:ea typeface="Times New Roman"/>
              </a:rPr>
              <a:t>dwunastk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181480" y="152280"/>
          <a:ext cx="382932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52280"/>
                    <a:ext cx="38293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819520" y="3505320"/>
          <a:ext cx="4857480" cy="320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3505320"/>
                    <a:ext cx="48574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24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Patrz tam,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 </a:t>
            </a:r>
            <a:br>
              <a:rPr sz="3600"/>
            </a:b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gdzie inni patrzą.</a:t>
            </a:r>
            <a:br>
              <a:rPr sz="3600"/>
            </a:br>
            <a:br>
              <a:rPr sz="2400"/>
            </a:b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Zobacz to, </a:t>
            </a:r>
            <a:br>
              <a:rPr sz="3600"/>
            </a:b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3600" spc="-1" strike="noStrike">
                <a:solidFill>
                  <a:srgbClr val="ffff66"/>
                </a:solidFill>
                <a:latin typeface="Comic Sans MS"/>
              </a:rPr>
              <a:t>czego inni nie widz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505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81080" y="89856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Systemy licze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2133720"/>
            <a:ext cx="64771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Chińczycy wypracowali sobie system pozycyjny dziesiątkowy, </a:t>
            </a:r>
            <a:br>
              <a:rPr sz="2800"/>
            </a:b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w którym zastosowali zmienne znaki cyfr w zależności od umiejscowienia na danej pozy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cffff"/>
                </a:solidFill>
                <a:latin typeface="Comic Sans MS"/>
              </a:rPr>
              <a:t>Sami też zauważyli potrzebę wprowadzenia znaku odpowiadającemu dzisiejszemu „zeru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1828800"/>
            <a:ext cx="41245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Burza mózg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Mapa poję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Piramida priorytet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Metoda przypadk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Linia cza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Drzewo decyzy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Meta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Za i Przeci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buClr>
                <a:srgbClr val="00cc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Symulac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Burza mózg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752120" y="342864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5ffe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Zebranie wszystkich możliwych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propozycji rozwiązania proble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5ffe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Wybór najlepszej z nich drogą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dyskusj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599840" y="25142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Usystematyzowanie posiadanej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wiedzy na temat danego problem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Graficzne przedstawienie sytuacji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na kartonie (np. w formie plakat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Wizualizacja posiadanych informacji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za pomocą schematów, rysunków,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haseł, zwrotów symboli wyrażeń itp.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związanych ze spraw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121932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Mapa pojęci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676160" y="27428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Zebranie potrzebnych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informacji i pomysł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Ustalenie w czasie dyskusji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hierarchii ich ważności  lub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zależnoś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Ustawienie ich w postaci </a:t>
            </a:r>
            <a:br>
              <a:rPr sz="3200"/>
            </a:b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c5ffe2"/>
                </a:solidFill>
                <a:latin typeface="Comic Sans MS"/>
              </a:rPr>
              <a:t>pirami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Piramida priorytet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47920" y="2514600"/>
            <a:ext cx="76197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Po przedstawieniu sytuacji problemowej uczestnicy ustalają w toku analizy i dyskus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inne, możliwie najlepsze rozwiąza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jakie przedsięwziąć środki, by taka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 sytuacja nie powtórzyła si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co należy zrobić znalazłszy się w po-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 dobnej sytu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371240" y="3805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Metoda przypadk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523880" y="24379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Ustalenie i zapisanie na kartkach  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wraz z krótkim opisem wszystkich 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ważnych wydarzeń lub fakt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cc99"/>
              </a:buClr>
              <a:buSzPct val="11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SzPct val="110000"/>
              <a:buFont typeface="Wingding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Wskazanie ścisłych zależności  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czasowych między nimi w postaci 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osi czasu z zaznaczonymi chrono-</a:t>
            </a:r>
            <a:br>
              <a:rPr sz="3200"/>
            </a:br>
            <a:r>
              <a:rPr b="0" lang="pl-PL" sz="3200" spc="-1" strike="noStrike">
                <a:solidFill>
                  <a:srgbClr val="c5ffe2"/>
                </a:solidFill>
                <a:latin typeface="Comic Sans MS"/>
              </a:rPr>
              <a:t>      logicznie opisanymi fakta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 u="sng">
                <a:solidFill>
                  <a:srgbClr val="75ffba"/>
                </a:solidFill>
                <a:uFillTx/>
                <a:latin typeface="Comic Sans MS"/>
              </a:rPr>
              <a:t>L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inia czas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600200" y="23623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Wizualizacja rogi rozwiązywania problemu w posta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20000"/>
              <a:buFont typeface="Wingdings 2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zdefiniowania problemu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20000"/>
              <a:buFont typeface="Wingdings 2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ściśle określonego celu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20000"/>
              <a:buFont typeface="Wingdings 2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znalezienie różnorodnych rozwiązań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SzPct val="120000"/>
              <a:buFont typeface="Wingdings 2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krótko opisanych pozytywnych i nega-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tywnych skutków podjęcia różnych 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decyz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 u="sng">
                <a:solidFill>
                  <a:srgbClr val="66ff99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Drzewo decyz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2133720" y="22860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Ustalenie w toku dyskusji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nad problem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3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jaki jest stan teraźniejsz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3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jak powinno być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3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dlaczego nie jest tak, jak być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powinn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3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jakie z tego wynikają wnioski </a:t>
            </a:r>
            <a:br>
              <a:rPr sz="2800"/>
            </a:br>
            <a:r>
              <a:rPr b="0" lang="en-US" sz="2800" spc="-1" strike="noStrike">
                <a:solidFill>
                  <a:srgbClr val="c5ffe2"/>
                </a:solidFill>
                <a:latin typeface="Comic Sans MS"/>
              </a:rPr>
              <a:t>     czyli co zrobić, by było dobrz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pl-PL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pl-PL" sz="3200" spc="-1" strike="noStrike" u="sng">
                <a:solidFill>
                  <a:srgbClr val="75ffba"/>
                </a:solidFill>
                <a:uFillTx/>
                <a:latin typeface="Comic Sans MS"/>
              </a:rPr>
              <a:t>Meta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2057400" y="2819520"/>
            <a:ext cx="6477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Analiza problemu w celu podjęcia decyzji lub jego rozwiązań za pomocą podziału np. n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„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Za” i „Przeciw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„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+” i „-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mocne i słabe stro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95280" y="9140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„Za” i „Przeciw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3712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I LOGICZ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7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Znajdź rozwiązanie prostych problemów logiczny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599840" y="2362320"/>
            <a:ext cx="7467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Znajdowanie różnych rozwiązań sytuacji problemowych za pomoc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naśladowania rzeczywistości (udawania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uczenia się na błędach popełnianych 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 w sytuacji ćwiczeniowej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wprowadzania korekt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powtarzania do osiągnięcia </a:t>
            </a:r>
            <a:br>
              <a:rPr sz="2800"/>
            </a:br>
            <a:r>
              <a:rPr b="0" lang="pl-PL" sz="2800" spc="-1" strike="noStrike">
                <a:solidFill>
                  <a:srgbClr val="c5ffe2"/>
                </a:solidFill>
                <a:latin typeface="Comic Sans MS"/>
              </a:rPr>
              <a:t>      akceptowalnego rozwiąz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1932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METODY PRACY GRUPOWEJ</a:t>
            </a:r>
            <a:br>
              <a:rPr sz="4000"/>
            </a:br>
            <a:r>
              <a:rPr b="0" lang="en-US" sz="4000" spc="-1" strike="noStrike">
                <a:solidFill>
                  <a:srgbClr val="66ff99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75ffba"/>
                </a:solidFill>
                <a:uFillTx/>
                <a:latin typeface="Comic Sans MS"/>
              </a:rPr>
              <a:t>Symulac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599840" y="13712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Arial"/>
              </a:rPr>
              <a:t>Kilka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„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Arial"/>
              </a:rPr>
              <a:t>zabaw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Arial"/>
              </a:rPr>
              <a:t> z problemem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Jak sobie by z nim poradzili inn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rz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pij si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z problemem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Identyfikacja celu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ie rób nic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Awansuj i przechod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ź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na ró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e stanowiska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otnij problem w czasi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Inkubacja rozwi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zania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Skojarzenia niezal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ne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Wyjd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ź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  <a:ea typeface="Times New Roman"/>
              </a:rPr>
              <a:t> z problemem do ludzi</a:t>
            </a: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47920" y="2057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abawa w „ankietera”, który podróżując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 czasie i przestrzeni zbiera opinie na temat rozwiązania problemu od różnych przeciw-stawnych postaci (różne kąty widzeni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ziecko-dorosł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obieta-mężczyzn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ogaty-biedny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gwiazda filmowa-szary człowiek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Symbol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pecjalista-laik,  i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8380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Jak poradzili by sobie z nim inn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752480" y="2742840"/>
            <a:ext cx="6858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Odłożenie na jakiś czas rozwiązywania problemu, by zająć się zupełnie czymś inny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owrót do pracy nawet po drzemce – niekiedy ważne pomysły wielkich tego świata przychodziły we ś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8380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P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rze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ś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pij si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ę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 z problemem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pis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szyst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otrzeb, uwarun-kowań przeszkód w celu globalneg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spojrzenia n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wszyst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e element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raz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identyfikowa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list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otrze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(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co ma 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o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gn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t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)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tworze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list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uwarunkow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(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 jakich nal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 wykon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dan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potrzeb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kreślenie kolejn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zesz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ó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d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(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akie st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na drodz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do osiągnięcia celu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Identyfikacja celu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666880" y="2666520"/>
            <a:ext cx="5562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*  C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byłoby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gd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b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nie rob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ic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by problem 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*  C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 sta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jakie 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konsekwencj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pozostawienia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sytuacji problemowej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do „samorozwiązania”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990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Nie rób nic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600200" y="25146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Uczeń, nauczyciel czy p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rof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s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Robotnik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, kierownik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albo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yrek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tudent, pracujący lub emery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ieszkaniec wsi, małego miasteczka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 czy dużej aglomeracji?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Jak rozwiąże problem każda z tych postaci. Czy jej charakter wpłynie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a sposób jego rozwiąza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83808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Awansuj i przechod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ź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 na ró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ż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ne stanowiska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904760" y="1905120"/>
            <a:ext cx="6933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zy można przewidzieć,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co dzia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ć się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dzie  z problemem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 godzi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a tydzień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a miesiąc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 ro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SzPct val="90000"/>
              <a:buFont typeface="Wingdings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 5 la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ak zmieni si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tosunek do problemu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? Czy rzeczywiście jest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on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taki straszny?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617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P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otnij problem w czasie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81080" y="2514240"/>
            <a:ext cx="6553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pi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a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oble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na kartce i pow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-szenie je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w widocznym miejsc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powo-duje, że z czasem można dopisywać pojawiające si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skojarzen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M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n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także no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ze so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kart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lub dyktafon by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otowa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omy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pojawia-jące się pod wpływem różnych zew-nętrznych impulsó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Inkubacja rozwi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ą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zania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wst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sze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szej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iz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oblem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(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poja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ksze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liczby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) poprzez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10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pi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ani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a osob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kart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kach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ów 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wyr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 z pierwotneg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oble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10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pi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a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skojarz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 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aspektów z ni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nych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upełnie nowych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oddzielo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d g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ównego problem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10000"/>
              <a:buFont typeface="MS Outlook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al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ie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o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nia pom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dzy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ierwot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nymi problemami i wtórnymi skojarzeniami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   w postaci np.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ó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kluczowy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8380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Skojarzenia niezale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ż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ne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71800" y="53352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A   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828440" y="17521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Comic Sans MS"/>
              </a:rPr>
              <a:t>Z miast A do B i B do A, odległych od siebie o 400km, wyjeżdżają dwa samochody ze średnią prędkością 80km/h każd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Comic Sans MS"/>
              </a:rPr>
              <a:t>Wraz z nimi z miasta A wylatuje helikopter </a:t>
            </a:r>
            <a:br>
              <a:rPr sz="2600"/>
            </a:br>
            <a:r>
              <a:rPr b="0" lang="en-US" sz="2600" spc="-1" strike="noStrike">
                <a:solidFill>
                  <a:srgbClr val="ffcc66"/>
                </a:solidFill>
                <a:latin typeface="Comic Sans MS"/>
              </a:rPr>
              <a:t>z prędkością 150km/h. Jego zadaniem jest latanie od jednego do drugiego samochodu do momentu spotkania się  aut pomiędzy miastami A i 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Comic Sans MS"/>
              </a:rPr>
              <a:t>Jak długo będzie latał helikopt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752120" y="22093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starczy zapyt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kog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 i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pozn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zdanie inn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na temat sytuacji problemowej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roblem 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a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rzedstawić komuś również z pozycji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fikcyj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go znajomeg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: 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ie wie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c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oradz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ć mojemu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zyjaciel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wi. M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taki proble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Co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 powiedzia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byś mu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na moim miejsc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?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"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METODY PRACY INDYWIDUALNEJ</a:t>
            </a:r>
            <a:br>
              <a:rPr sz="3600"/>
            </a:b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Wyjd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ź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  <a:ea typeface="Times New Roman"/>
              </a:rPr>
              <a:t> z problemem do ludzi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057040" y="2666880"/>
            <a:ext cx="56386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Łańcuch skojarze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Trening spostrzegawczoś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omic Sans MS"/>
              </a:rPr>
              <a:t>Zastosowanie wiel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ĆWICZENIA INDYWIDUALN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 każdej wolnej chwili można wybrać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owolne słowo i rozpocząć niekończący się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iąg skojarzeń tak, by poprzednie słowo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mplikowało pojawienie się następne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Można to poprowadzić na dwa sposo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łatwy – proste i klasyczne skojarze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rudny -  skojarzenia wyszukane i dziw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685800" y="8377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ĆWICZENIA INDYWIDUALNE</a:t>
            </a:r>
            <a:br>
              <a:rPr sz="3600"/>
            </a:b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Łańcuch skojar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676520" y="22860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 każdym miejscu można wybrać sobie pewien element lub cechę występującą wokoło i poszukiwać wśród nich pewnych   ukrytych zależnoś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p. tablice rejestracyjne i podzielność liczb, charakter człowieka i jego wygląd, marka samochodu i zachowanie kierowcy, słownictwo człowieka i jego towarzystwo, it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685800" y="7617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ĆWICZENIA INDYWIDUALNE</a:t>
            </a:r>
            <a:br>
              <a:rPr sz="3600"/>
            </a:b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Trening spostrzegawcz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676520" y="17524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Prawie każdą rzecz można zastosować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ie tylko zgodnie z jej podstawowym przeznaczeni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Można wymyślić wiele różnorodnych zas-tosowań wybranego przedmiotu, prostych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i zupełnie do tej pory nie zauważal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p. ekierka, taśma z kasety audio lub wideo, płyta CD, drut miedziany z cewki elektrycznej, patyczki od lodów, wytłoczki do jaj, it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Comic Sans MS"/>
              </a:rPr>
              <a:t>ĆWICZENIA INDYWIDUALNE</a:t>
            </a:r>
            <a:br>
              <a:rPr sz="3600"/>
            </a:br>
            <a:r>
              <a:rPr b="0" lang="en-US" sz="2800" spc="-1" strike="noStrike" u="sng">
                <a:solidFill>
                  <a:srgbClr val="ffcc66"/>
                </a:solidFill>
                <a:uFillTx/>
                <a:latin typeface="Comic Sans MS"/>
              </a:rPr>
              <a:t>Zastosowanie wielodroż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504960" y="22860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Myśl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Inteligen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Kreatyw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Log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Wyobraź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omic Sans MS"/>
              </a:rPr>
              <a:t>Fantaz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br>
              <a:rPr sz="4400"/>
            </a:b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Myślen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10000"/>
              <a:buFont typeface="Comic Sans M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oces roz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ywania przez c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wieka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oblemów, polegaj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y na przetw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zaniu informacj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10000"/>
              <a:buFont typeface="Comic Sans M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Zdolność przetwarzania informacji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i faktów tak rzeczywistych jak i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abstrakcyj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10000"/>
              <a:buFont typeface="Comic Sans M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oces wytwarzania nowych informacj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71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Inteligen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447920" y="1828800"/>
            <a:ext cx="7467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S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aw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w zakresie m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enia,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oz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ywania problemów i inn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zyn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i poznawcz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praw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rozumienia 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oblemów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S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kutecz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poszukiwania trafnych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oz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5000"/>
              <a:buFont typeface="Marlett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S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aw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dzi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nia w sytuacjach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owych i trudnyc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29528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Kreatywnoś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2362320"/>
            <a:ext cx="6705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Z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olno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wyznaczania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iestandardowych dróg dzia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nia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Łatwe w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ązani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e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ze sobą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braz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ów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symbol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metafor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i wypracowywanie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n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Umiejętność twórczego myślenia,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którego wynikiem jest podanie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nowych rozwiąza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Log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52480" y="2133720"/>
            <a:ext cx="7086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Tahoma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Umiej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tno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szybkiego kojarzenia  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faktów, rzeczy i ce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Tahoma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Umiejętność s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modzielnego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nioskowania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Tahoma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Sprawne operowanie skrótami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myślowymi i symbolam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Tahoma"/>
              <a:buChar char="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N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iezb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ny element przyswajania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i porz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kowania zdobywanej wiedzy</a:t>
            </a: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mic Sans MS"/>
              </a:rPr>
              <a:t>    którego wspomaga i przyspies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6880" y="8377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A   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057400" y="205740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Na obwodzie kwadratu ułożono 12 jednakowych monet tak, że wzdłuż każdego boku umieszczono po 4 mon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Jak zmienić to ułożenie, by wzdłuż każdego boku było umieszczonych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po 5 mon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Wyobraź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21337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sychiczna zdol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tworzenia obrazów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udzi, zwier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t, przedmiotów, krain,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j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-   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isk itp., istniej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lub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ym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on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pl-PL" sz="2800" spc="-1" strike="noStrike">
                <a:solidFill>
                  <a:srgbClr val="ccecff"/>
                </a:solidFill>
                <a:latin typeface="Verdana"/>
              </a:rPr>
              <a:t>U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miej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t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przypom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nani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sobie lub w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tw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ia w um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e dowolnych bod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ź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ów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dbieranych przez wszystkie zmys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atwe przetwarzanie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obrazów, d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ź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ków,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apachów, smaków, wr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dotykowych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w celu tworzenia nowych obraz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DEFINICJ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99ff"/>
                </a:solidFill>
                <a:uFillTx/>
                <a:latin typeface="Comic Sans MS"/>
              </a:rPr>
              <a:t>Fantaz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2133720"/>
            <a:ext cx="7239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P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rzedstawianie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nowych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sytuacj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zdarz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cych przetworzeniem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i wzbogaceniem w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snych d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iadcz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dolno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ć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do zmy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l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ccff"/>
              </a:buClr>
              <a:buSzPct val="120000"/>
              <a:buFont typeface="Wingdings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B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ardzo istotny warun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k uczenia s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, 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pracy, pracy naukowej, a tak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e roz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wi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zywania ró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nych zada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  <a:ea typeface="Times New Roman"/>
              </a:rPr>
              <a:t>yciowych.</a:t>
            </a:r>
            <a:r>
              <a:rPr b="0" lang="pl-PL" sz="2800" spc="-1" strike="noStrike">
                <a:solidFill>
                  <a:srgbClr val="ccec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676520" y="1905120"/>
            <a:ext cx="71625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Wertyk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Later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     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Konwergen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     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Dywergen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Jedn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Dwu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	</a:t>
            </a:r>
            <a:r>
              <a:rPr b="0" lang="pl-PL" sz="3200" spc="-1" strike="noStrike">
                <a:solidFill>
                  <a:srgbClr val="ffcc66"/>
                </a:solidFill>
                <a:latin typeface="Comic Sans MS"/>
              </a:rPr>
              <a:t>- Wiel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144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Wertyk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16765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n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problemu we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ug znanych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schematów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"z góry" upatrzo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sposó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rdzo wygod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twi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sobie pracy na  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zasadzie powtarzania utartych schemat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Zupełny brak niepewnośc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a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to zrobić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?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nalezienie jakiegokolwiek 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zania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ak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kolwiek meto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2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M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len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jednotorow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prowadzące d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wy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prostego” rozwiązania na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jak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Arial"/>
              </a:rPr>
              <a:t>okres, do czasu znalezienia lepszych.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14400" y="763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cc66"/>
                </a:solidFill>
                <a:uFillTx/>
                <a:latin typeface="Comic Sans MS"/>
              </a:rPr>
              <a:t>Lateral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23880" y="1600200"/>
            <a:ext cx="7467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strz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enie nowych m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iw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w danej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sytu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rzeform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wani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roblemu da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e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zans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zania go nowymi metodam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Gotow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ć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o pozbycia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sztywn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i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ostrzegani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 rozumieniu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iat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Zdoln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ć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atrzenia na problem 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ó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ych str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" spc="-1" strike="noStrike">
                <a:solidFill>
                  <a:srgbClr val="ffffcc"/>
                </a:solidFill>
                <a:latin typeface="Comic Sans MS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 3" charset="2"/>
              <a:buChar char="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iadome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oszukiwanie nowych,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lte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atywnych rozw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z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.</a:t>
            </a:r>
            <a:r>
              <a:rPr b="0" lang="pl-PL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cc66"/>
                </a:solidFill>
                <a:uFillTx/>
                <a:latin typeface="Comic Sans MS"/>
              </a:rPr>
              <a:t>Konwergen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23880" y="220968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G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omadzenie faktów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ra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organizowanie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ch w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logicznym”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orz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dku i we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e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”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kolejn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c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Kopiowanie” sposobów rozwiązań pro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blemów z innych sytuacj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ingdings" charset="2"/>
              <a:buChar char="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Myślenie p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do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ne do inn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wynikaj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e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z przystosowania s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do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tocz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9144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ffcc66"/>
                </a:solidFill>
                <a:uFillTx/>
                <a:latin typeface="Comic Sans MS"/>
              </a:rPr>
              <a:t>Dywergencyj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1337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Odkrywanie w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el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punktów widzenia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icz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m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iwo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ci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rozwiązania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roblemu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rak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troski o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popraw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”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czy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„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ogiczn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ą”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odpowied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201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Webding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R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ó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nicowanie toku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myślenia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pod wp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wem odmiennych warunków terenowych, </a:t>
            </a:r>
            <a:br>
              <a:rPr sz="2800"/>
            </a:b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    ś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rodowiskowych i wzajemnej izolacji</a:t>
            </a:r>
            <a:r>
              <a:rPr b="0" lang="pl-PL" sz="28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Jedn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2514600"/>
            <a:ext cx="70102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ojarzenie faktów, możliwości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sytuacji na poziomie kilkuletniego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zieck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Zupełny brak tworzenia własny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ndywidualnych rozwiąza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Ograniczone postrzeganie świata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występujących w nim zależnoś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144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Dwu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8800" y="2209680"/>
            <a:ext cx="65530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ojarzenie faktów, możliwości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sytuacji charakterystyczne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la większości ludz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„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Lenistwo” w rozwiązywaniu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ytuacji problemow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iewielka dawką indywidualizmu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w rozwiązywaniu sytuacji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problemowe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144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Myślen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Comic Sans MS"/>
              </a:rPr>
              <a:t>Wielodroż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1905120"/>
            <a:ext cx="73152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Kojarzenie faktów, możliwości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i sytuacji na jednocześnie wielu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równoległych poziomac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Tworzenie własnych indywidualny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rozwiązań problemów oparty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na wnikliwej obserwacji otocz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tawianie śmiałych teori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SzPct val="120000"/>
              <a:buFont typeface="Web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Bardzo szybka ocena własnych 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działań i możliwoś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05320" y="8377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A   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6000" y="243792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Ślimak wpełza na 2 metrową łodygę trzciny ze średnią prędkością 1m/24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Po dwóch dniach ślimak nie osiągną szczytu łodyg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Dlacze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2952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cc66"/>
                </a:solidFill>
                <a:latin typeface="Comic Sans MS"/>
              </a:rPr>
              <a:t>Myślenie later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1600200"/>
            <a:ext cx="708660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1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Oddzielenie się od ogólnie przyjętych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„poprawnych” rozwiąza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1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„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Spojrzenie” na problem z różnych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stron, pod różnym ką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1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Odkrycie pod klasycznym rozwiąza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niem innych, ukrytych w jego cieni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1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Wykorzystanie przypadku jako  pod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powiedzi ciekawego  i niecodziennego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 rozwiąz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643104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"Jak stosować myślenie lateralne"</a:t>
            </a:r>
            <a:r>
              <a:rPr b="0" lang="pl-PL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 </a:t>
            </a:r>
            <a:r>
              <a:rPr b="0" i="1" lang="pl-PL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Edward DE BO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cc66"/>
                </a:solidFill>
                <a:latin typeface="Comic Sans MS"/>
              </a:rPr>
              <a:t>Myślenie later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66ff99"/>
                </a:solidFill>
                <a:uFillTx/>
                <a:latin typeface="Comic Sans MS"/>
              </a:rPr>
              <a:t>Pułapka wzo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2325600"/>
            <a:ext cx="72388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Stosowanie utartych schematów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rozwiązań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Arial"/>
              </a:rPr>
              <a:t>, to tak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Arial"/>
              </a:rPr>
              <a:t> jakby raz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Arial"/>
              </a:rPr>
              <a:t>stworzona metod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była najlepsza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przez „zasiedzenie”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Arial"/>
              </a:rPr>
              <a:t>.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Symbol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Największą trudność to odkrycie,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iż istnieje wiele różnych możliwości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rozwiązań, oraz przestawienie się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na nowe tory myśle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430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cc66"/>
                </a:solidFill>
                <a:latin typeface="Comic Sans MS"/>
              </a:rPr>
              <a:t>Myślenie lateral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66ff99"/>
                </a:solidFill>
                <a:uFillTx/>
                <a:latin typeface="Comic Sans MS"/>
              </a:rPr>
              <a:t>Przykłady problemó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52480" y="2662200"/>
            <a:ext cx="71629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Web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Jaki kształt powinien mieć moni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Web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Kiedy utworzyć trawniki na nowym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osiedlu? Cel tabliczek „Nie deptać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trawników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120000"/>
              <a:buFont typeface="Webding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wolucja maszynek do golenia, tele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fonów komórkowych czy specjalis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tycznych maszyn produkcyjn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762120"/>
            <a:ext cx="8001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311560"/>
            <a:ext cx="68580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Wpływa na nie przede wszystki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ynno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 i gi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ęt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ko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 my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l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Oryginalno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 my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l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Wra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liwo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ść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 na proble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Kojarzenie odleg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ych rzeczy i i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Transformowanie (przekszta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75ffa3"/>
                </a:solidFill>
                <a:latin typeface="Comic Sans MS"/>
                <a:ea typeface="Times New Roman"/>
              </a:rPr>
              <a:t>ca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14300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P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ł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ynno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ść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 i gi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ę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tko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ść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 my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</a:rPr>
              <a:t>ś</a:t>
            </a:r>
            <a:r>
              <a:rPr b="0" lang="en-US" sz="2800" spc="-1" strike="noStrike" u="sng">
                <a:solidFill>
                  <a:srgbClr val="66ff66"/>
                </a:solidFill>
                <a:uFillTx/>
                <a:latin typeface="Comic Sans MS"/>
                <a:ea typeface="Times New Roman"/>
              </a:rPr>
              <a:t>lenia</a:t>
            </a:r>
            <a:r>
              <a:rPr b="0" lang="en-US" sz="4000" spc="-1" strike="noStrike" u="sng">
                <a:solidFill>
                  <a:srgbClr val="00cc66"/>
                </a:solidFill>
                <a:uFillTx/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2173320"/>
            <a:ext cx="7467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2708280"/>
            <a:ext cx="74674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ymy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anie d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ej liczby ró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orod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ych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,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interesuj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ych rozw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Poszukiwanie różnorodnych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schem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t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ó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my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astyczn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ość w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dostoso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aniu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pomys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łó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do rodzaju zad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i warunkó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Oryginalno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ść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 my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ś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l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2173320"/>
            <a:ext cx="7467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52480" y="2770200"/>
            <a:ext cx="70106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orz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en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rzadk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ch,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skakuj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cych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i niekonwencjonaln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ych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rozw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ń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 danej grupie osób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Utrzymywanie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w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kó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z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dan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sytuacj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 mimo wdrażania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nowatorskich p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omys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łó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4300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Wra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ż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liwo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ść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 na proble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2173320"/>
            <a:ext cx="7467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209680"/>
            <a:ext cx="77724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K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rytyczne dostrzegan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wad, brakó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uk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i niedostatków w ludzkich dzi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aniach i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rzeczach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z perspektywy różnych postac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„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T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rz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ź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my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enie o tym, co by mo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a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rob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ć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epiej lub p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kniej bez ulegania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mir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om starych nawykó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10000"/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r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ość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na problemy, dociekli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ość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 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nie uleg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n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przyzwyczajeniom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143000" y="60948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Kojarzenie odleg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ł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ych rzeczy i id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523880" y="2173320"/>
            <a:ext cx="74678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2249640"/>
            <a:ext cx="784836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mi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jętność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po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ł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z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ni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w swym umy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e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d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ub w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ej pomys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ó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w cel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uzysk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ni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trzec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go o zupełni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now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ej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jako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śc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ik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ani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starych, zu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ż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ytych i m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z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ych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s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posobów dzi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an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Omij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nie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przeszk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ód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intelektualn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z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- </a:t>
            </a:r>
            <a:br>
              <a:rPr sz="2800"/>
            </a:b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  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gradzaj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ych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drog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do nowych rozwi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</a:rPr>
              <a:t>ń</a:t>
            </a:r>
            <a:r>
              <a:rPr b="0" lang="pl-PL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Myślenie twórcz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Transformowanie (przekszta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</a:rPr>
              <a:t>ł</a:t>
            </a:r>
            <a:r>
              <a:rPr b="0" lang="en-US" sz="2800" spc="-1" strike="noStrike" u="sng">
                <a:solidFill>
                  <a:srgbClr val="75ffa3"/>
                </a:solidFill>
                <a:uFillTx/>
                <a:latin typeface="Comic Sans MS"/>
                <a:ea typeface="Times New Roman"/>
              </a:rPr>
              <a:t>cani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95280" y="2514600"/>
            <a:ext cx="769644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ksperyment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owan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my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owe, wymy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-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n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niezwyk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łych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fabu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, scenariusz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y, ide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i czasem dowcip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ów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Zrzucenie z siebie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gorsetu hamuj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ego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wyobra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ź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ni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ę (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"nie wypada" lub "nie wolno„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)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66ff66"/>
              </a:buClr>
              <a:buSzPct val="120000"/>
              <a:buFont typeface="Web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„</a:t>
            </a: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Dziecinne” podejście do problemu daje </a:t>
            </a:r>
            <a:br>
              <a:rPr sz="2800"/>
            </a:br>
            <a:r>
              <a:rPr b="0" lang="en-US" sz="2800" spc="-1" strike="noStrike">
                <a:solidFill>
                  <a:srgbClr val="99ffcc"/>
                </a:solidFill>
                <a:latin typeface="Comic Sans MS"/>
              </a:rPr>
              <a:t> niecodzienne rozwiązan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7080" y="586728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66ff66"/>
                </a:solidFill>
                <a:latin typeface="Comic Sans MS"/>
                <a:ea typeface="Times New Roman"/>
              </a:rPr>
              <a:t>Krzysztof Szmidt</a:t>
            </a:r>
            <a:r>
              <a:rPr b="0" lang="pl-PL" sz="1200" spc="-1" strike="noStrike">
                <a:solidFill>
                  <a:srgbClr val="66ff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43000" y="3049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Podejście systemowe </a:t>
            </a:r>
            <a:br>
              <a:rPr sz="4000"/>
            </a:b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w rozwiązywaniu problem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1905120"/>
            <a:ext cx="73911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Czasowe polepszenia często prowadzą </a:t>
            </a:r>
            <a:br>
              <a:rPr sz="2400"/>
            </a:b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do długotrwałych problemów i trudnośc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Łatwe rozwiązanie może w ogóle nie być rozwiązani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Szybkie rozwiązanie często wiedzie do licz-nych problemów, które nie istniały przed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Działania które przyniosą najlepsze efekty wcale nie są oczywiste z pierwszego wejrzen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66"/>
              </a:buClr>
              <a:buSzPct val="120000"/>
              <a:buFont typeface="Webdings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Niski koszt i wysoka efektywność rozwiązań </a:t>
            </a:r>
            <a:br>
              <a:rPr sz="2400"/>
            </a:br>
            <a:r>
              <a:rPr b="0" lang="pl-PL" sz="2400" spc="-1" strike="noStrike">
                <a:solidFill>
                  <a:srgbClr val="99ffcc"/>
                </a:solidFill>
                <a:latin typeface="Comic Sans MS"/>
              </a:rPr>
              <a:t>nie mogą być przedmiotem wzajemnej wymian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181480" y="65530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prof. Czesław CEMPEL</a:t>
            </a:r>
            <a:r>
              <a:rPr b="0" lang="en-US" sz="1200" spc="-1" strike="noStrike">
                <a:solidFill>
                  <a:srgbClr val="00cc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520" y="8377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 Sans MS"/>
              </a:rPr>
              <a:t>ZAGADKA   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133720" y="2361960"/>
            <a:ext cx="5943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Obracamy jedną monetę wokół drugiej, identycznej, bez poślizgu (jak w kołach zębatych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Ile obrotów wykona zewnętrzna ruchoma moneta, by pokonać pełny okrąg wokół pierwszej statycznej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20120" y="2743200"/>
            <a:ext cx="1144080" cy="1523880"/>
            <a:chOff x="7620120" y="2743200"/>
            <a:chExt cx="1144080" cy="1523880"/>
          </a:xfrm>
        </p:grpSpPr>
        <p:sp>
          <p:nvSpPr>
            <p:cNvPr id="64" name=""/>
            <p:cNvSpPr/>
            <p:nvPr/>
          </p:nvSpPr>
          <p:spPr>
            <a:xfrm>
              <a:off x="7620120" y="3504960"/>
              <a:ext cx="762120" cy="762120"/>
            </a:xfrm>
            <a:prstGeom prst="ellipse">
              <a:avLst/>
            </a:prstGeom>
            <a:solidFill>
              <a:srgbClr val="ff9900"/>
            </a:solidFill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001000" y="2743200"/>
              <a:ext cx="762120" cy="761760"/>
            </a:xfrm>
            <a:prstGeom prst="ellipse">
              <a:avLst/>
            </a:prstGeom>
            <a:solidFill>
              <a:srgbClr val="ff9900"/>
            </a:solidFill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772400" y="358128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2428800">
              <a:off x="8152920" y="2818800"/>
              <a:ext cx="4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43000" y="4572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66"/>
                </a:solidFill>
                <a:latin typeface="Comic Sans MS"/>
              </a:rPr>
              <a:t>Podejście systemow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2057400"/>
            <a:ext cx="731520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Je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 m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sz rok naprzód, zasiej ziarno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Je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 m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sz dziesi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ęć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at naprzód, zasad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ź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drzewo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Je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 m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ś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lisz sto lat naprzód, kszta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łć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 ludz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Zasiewaj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 ziarno, raz zbierzesz plon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Sadz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 drzewo, zbierasz plon dziesi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ę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iokrotn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Kszta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ł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ą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c ludzi (i siebie), zbierasz plon stukrotny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(anonimowy poeta chiński VI w</a:t>
            </a:r>
            <a:r>
              <a:rPr b="0" lang="en-US" sz="1600" spc="-1" strike="noStrike">
                <a:solidFill>
                  <a:srgbClr val="99ffcc"/>
                </a:solidFill>
                <a:latin typeface="Comic Sans MS"/>
              </a:rPr>
              <a:t>.</a:t>
            </a:r>
            <a:r>
              <a:rPr b="0" lang="en-US" sz="1600" spc="-1" strike="noStrike">
                <a:solidFill>
                  <a:srgbClr val="99ffcc"/>
                </a:solidFill>
                <a:latin typeface="Comic Sans MS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99ffcc"/>
                </a:solidFill>
                <a:latin typeface="Comic Sans MS"/>
              </a:rPr>
              <a:t>.n.e.)</a:t>
            </a:r>
            <a:r>
              <a:rPr b="0" lang="en-US" sz="2400" spc="-1" strike="noStrike">
                <a:solidFill>
                  <a:srgbClr val="99ff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65530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66"/>
                </a:solidFill>
                <a:latin typeface="Comic Sans MS"/>
                <a:ea typeface="Times New Roman"/>
              </a:rPr>
              <a:t>prof. Czesław CEMPEL</a:t>
            </a:r>
            <a:r>
              <a:rPr b="0" lang="en-US" sz="1200" spc="-1" strike="noStrike">
                <a:solidFill>
                  <a:srgbClr val="00cc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352320" y="1447560"/>
            <a:ext cx="40388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DZIĘKUJĘ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omic Sans MS"/>
              </a:rPr>
              <a:t>ZA UWAG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04760" y="449568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Źródł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materiały własne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Interne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literatura metodycz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0" lang="pl-PL" sz="1600" spc="-1" strike="noStrike">
                <a:solidFill>
                  <a:srgbClr val="ffff66"/>
                </a:solidFill>
                <a:latin typeface="Comic Sans MS"/>
              </a:rPr>
              <a:t>Uwagi i spostrzeżenia: bozyslaw67@op.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8120" y="6858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286000" y="205704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Trzeba zmierzyć przekątną zaklejonego prostopadłościennego pudełka. Do dyspozycji jest jedynie wystarczająco długa linij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cc66"/>
                </a:solidFill>
                <a:latin typeface="Comic Sans MS"/>
              </a:rPr>
              <a:t>Jak dokonać tego pomiaru, bez zaprzągania dodatkowych obliczeń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8377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Comic Sans MS"/>
              </a:rPr>
              <a:t>ZAGADKA    6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133360" y="2514600"/>
            <a:ext cx="37335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Jak podzielić dany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kwadrat (8x8) na 4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identyczne części,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by w każdej znalazł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się dokładnie jeden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Comic Sans MS"/>
              </a:rPr>
              <a:t>kolorowy kwadraci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095880" y="2590920"/>
            <a:ext cx="2514600" cy="2514600"/>
            <a:chOff x="6095880" y="2590920"/>
            <a:chExt cx="2514600" cy="2514600"/>
          </a:xfrm>
        </p:grpSpPr>
        <p:sp>
          <p:nvSpPr>
            <p:cNvPr id="73" name=""/>
            <p:cNvSpPr/>
            <p:nvPr/>
          </p:nvSpPr>
          <p:spPr>
            <a:xfrm>
              <a:off x="6095880" y="2590920"/>
              <a:ext cx="2514600" cy="2514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095880" y="2590920"/>
              <a:ext cx="2514240" cy="2514600"/>
              <a:chOff x="6095880" y="2590920"/>
              <a:chExt cx="2514240" cy="2514600"/>
            </a:xfrm>
          </p:grpSpPr>
          <p:sp>
            <p:nvSpPr>
              <p:cNvPr id="75" name=""/>
              <p:cNvSpPr/>
              <p:nvPr/>
            </p:nvSpPr>
            <p:spPr>
              <a:xfrm>
                <a:off x="609588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0980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24080" y="259092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03872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35300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6728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981560" y="259092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295840" y="259092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09588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40980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24080" y="290520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3872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5300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6728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981560" y="290520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295840" y="290520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09588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0980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724080" y="321948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03872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5300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6728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981560" y="32194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295840" y="321948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9588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0980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24080" y="353376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03872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5300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6728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981560" y="35337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295840" y="353376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09588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0980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24080" y="384804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3872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53000" y="3848040"/>
                <a:ext cx="313920" cy="314280"/>
              </a:xfrm>
              <a:prstGeom prst="rect">
                <a:avLst/>
              </a:prstGeom>
              <a:solidFill>
                <a:srgbClr val="ff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66728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981560" y="38480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295840" y="384804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09588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40980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724080" y="416268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3872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5300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67280" y="4162680"/>
                <a:ext cx="313920" cy="314280"/>
              </a:xfrm>
              <a:prstGeom prst="rect">
                <a:avLst/>
              </a:prstGeom>
              <a:solidFill>
                <a:srgbClr val="33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81560" y="416268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95840" y="416268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9588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40980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24080" y="447696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03872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35300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67280" y="447696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81560" y="4476960"/>
                <a:ext cx="313920" cy="31428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295840" y="447696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9588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40980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24080" y="4791240"/>
                <a:ext cx="31428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3872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35300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66728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81560" y="4791240"/>
                <a:ext cx="313920" cy="3142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295840" y="4791240"/>
                <a:ext cx="314280" cy="314280"/>
              </a:xfrm>
              <a:prstGeom prst="rect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20:33:35Z</dcterms:created>
  <dc:creator>miodzio</dc:creator>
  <dc:description/>
  <dc:language>en-US</dc:language>
  <cp:lastModifiedBy>.</cp:lastModifiedBy>
  <dcterms:modified xsi:type="dcterms:W3CDTF">2007-03-24T00:23:18Z</dcterms:modified>
  <cp:revision>139</cp:revision>
  <dc:subject/>
  <dc:title>ZAGADKI LOGICZNE</dc:title>
</cp:coreProperties>
</file>